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D3A-AD93-46ED-A77D-05A67A69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68A-43D5-47B8-AB5D-83F862BB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3FC-2006-46BF-B3CF-5B6DE5C4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F6B-B9A8-4E16-8915-946EBCA0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D18-A44C-46DC-999B-05D1A336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57F-33D3-4220-9F10-678BA968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43C-0735-461C-83FB-25CF6A49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FB0-6DD2-428C-947F-87D76A0E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44B-8F8C-4711-87AB-C26C28DA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794-02DF-4B0B-AEDC-8D8B2109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B09-14C7-4FE3-8640-00E289D1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CFA-BB63-47AB-BC41-55B97D43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3b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18BF-8E77-49B5-8CB1-4E8FE9EC8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3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3b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0840" y="2454120"/>
            <a:ext cx="8280360" cy="23360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СТАТИЧЕС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 Antiqua"/>
              </a:rPr>
              <a:t>НЕОПРЕДЕЛИМЫЕ СИСТЕМ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260280"/>
            <a:ext cx="828036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С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ТРОИТЕЛЬНАЯ МЕХ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New_Zelek"/>
              </a:rPr>
              <a:t>Ч</a:t>
            </a:r>
            <a:r>
              <a:rPr b="1" lang="ru-RU" sz="4400" spc="-1" strike="noStrike">
                <a:solidFill>
                  <a:srgbClr val="333399"/>
                </a:solidFill>
                <a:latin typeface="New_Zelek"/>
              </a:rPr>
              <a:t>асть </a:t>
            </a:r>
            <a:r>
              <a:rPr b="1" lang="en-US" sz="5400" spc="-1" strike="noStrike">
                <a:solidFill>
                  <a:srgbClr val="333399"/>
                </a:solidFill>
                <a:latin typeface="New_Zelek"/>
              </a:rPr>
              <a:t>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5400000">
            <a:off x="417240" y="176040"/>
            <a:ext cx="405000" cy="668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1" lang="en-US" sz="1800" spc="1" strike="noStrike">
              <a:ln w="12600">
                <a:solidFill>
                  <a:srgbClr val="c4b596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371520"/>
            <a:ext cx="2872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ВГ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7600" y="4978440"/>
            <a:ext cx="8280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Общие свед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о статически неопределимых системах</a:t>
            </a:r>
            <a:r>
              <a:rPr b="1" lang="en-US" sz="48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Book Antiqua"/>
              </a:rPr>
              <a:t>и их свойств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3b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4840" y="399960"/>
            <a:ext cx="878508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КОМЕНДУЕМАЯ УЧЕБНО-МЕТОДИЧЕСК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3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 2-ой части курса строительной механи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 ч е б н и к 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1.  Дарков А.В., Шапошников Н.Н.  Строительная механика. 2008 (2004,1987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2.  Потапов В.Д. и др.  Строительная механика. Кн. 1. Статика упругих систем. 2007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3.  Леонтьев Н.Н., Соболев Д.Н., Амосов А.А.  Основы строительной механики стержнев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систем.  1996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4. Смирнов А.Ф., Александров А.В., Лащеников Б.Я., Шапошников Н.Н.  Строительная механик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Стержневые системы. 198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5.  Киселёв В.А. Строительная механика. 198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У ч е б н о-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м е т о д и ч е с к и е  и з д а н и я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1.  Себешев В.Г.  Строительная механика. Часть </a:t>
            </a:r>
            <a:r>
              <a:rPr b="1" i="1" lang="en-US" sz="13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I. Статически неопределимые систем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Иллюстративный конспект лекций (УП) [Электронный ресурс]. 2010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2.  Крамаренко А.А. Лекции по строительной механике стержневых систем. Части 3 и 4 (УП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2002, 2004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3.  Себешев В.Г.  Особенности работы статически неопределимых систем и регулиров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усилий в конструкциях (УП). 2009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4.  Себешев В.Г., Чаплинский И.А., Канышев Ю.И.  Метод конечных элементов в расчетах слож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строительных конструкций (УП). 1989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5.  Анохин Н.Н. Строительная механика в примерах и задачах. Часть </a:t>
            </a:r>
            <a:r>
              <a:rPr b="1" i="1" lang="en-US" sz="1300" spc="-1" strike="noStrike">
                <a:solidFill>
                  <a:srgbClr val="800000"/>
                </a:solidFill>
                <a:latin typeface="Arial"/>
              </a:rPr>
              <a:t>II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. Статически неопределимы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системы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(УП). 2007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6.  Себешев В.Г., Вешкин</a:t>
            </a:r>
            <a:r>
              <a:rPr b="1" i="1" lang="ru-RU" sz="1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М.С.  Расчет статически неопределимых стержневых систем методо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сил и определение перемещений в них (МУ). 201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7.  Себешев В.Г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Расчет деформируемых стержневых систем методом перемещений (МУ). 2010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8.  Крамаренко А.А., Широких Л.А.  Определение перемещений в статически определимых системах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Статически неопределимые системы  (Сборник задач для самостоятельной работ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i="1" lang="ru-RU" sz="1300" spc="-1" strike="noStrike">
                <a:solidFill>
                  <a:srgbClr val="800000"/>
                </a:solidFill>
                <a:latin typeface="Arial"/>
              </a:rPr>
              <a:t>студентов). 199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38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9. Селюков В.М.  Расчетно-проектировочные работы по строительной механике. 1989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10. Клейн Г.К. и др.  Руководство к практическим занятиям по курсу строительной механи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(статика стержневых систем).  1980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3b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260280"/>
            <a:ext cx="8642160" cy="64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ОСНОВНЫЕ ПОНЯТИЯ И ОПРЕДЕЛЕНИЯ ТЕОРИИ РАС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СТАТИЧЕСКИ НЕОПРЕДЕЛИМЫХ СИСТЕМ ( СНС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907920"/>
            <a:ext cx="8496000" cy="1009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Статически неопределимой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называется геометр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неизменяемая система, для определения силовых фак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в  которой 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недостаточно одних лишь уравнений равновес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*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040" y="1959120"/>
            <a:ext cx="83520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В дополнение к уравнениям статики необходимо использовать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совместности деформаций 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или перемещений и физические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между статическими и кинематическими (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геометрическими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) величи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852640"/>
            <a:ext cx="8496000" cy="20847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Степенью статической неопределимости системы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называется разность между числом подлежащих определению силовых факторов и количеством независимых уравнений равновесия, которые могут быть записаны для их определения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3387600" y="4483080"/>
            <a:ext cx="431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4027320" y="4470480"/>
            <a:ext cx="431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05240" y="4732200"/>
            <a:ext cx="5763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52880" y="4741920"/>
            <a:ext cx="5763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53080" y="4221000"/>
            <a:ext cx="144360" cy="9367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464"/>
                </a:lnTo>
                <a:cubicBezTo>
                  <a:pt x="10800" y="11364"/>
                  <a:pt x="16200" y="12264"/>
                  <a:pt x="21600" y="12264"/>
                </a:cubicBezTo>
                <a:cubicBezTo>
                  <a:pt x="16200" y="12264"/>
                  <a:pt x="10800" y="13164"/>
                  <a:pt x="10800" y="14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41800" y="4589640"/>
            <a:ext cx="3778200" cy="457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–W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л.с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2280" y="5013360"/>
            <a:ext cx="3598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отсутствии ложных связ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0600" y="5084640"/>
            <a:ext cx="2592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пло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ержневых сист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8680" y="5183280"/>
            <a:ext cx="38163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л.с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сло лишних связе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62680" y="5702400"/>
            <a:ext cx="3744720" cy="917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ень стат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определимости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вна числу лишних связей в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43640" y="5554080"/>
            <a:ext cx="79236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216400"/>
            <a:ext cx="2016000" cy="457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5635800"/>
            <a:ext cx="48258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число  независимых  </a:t>
            </a:r>
            <a:r>
              <a:rPr b="1" i="1" lang="ru-RU" sz="1800" spc="-1" strike="noStrike">
                <a:solidFill>
                  <a:srgbClr val="333399"/>
                </a:solidFill>
                <a:latin typeface="Arial Narrow"/>
              </a:rPr>
              <a:t>замкнутых конту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расчётной схеме системы, образ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элементами системы  друг с другом  и  ди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м «земл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– число простых шарнир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88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12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2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12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3b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60280"/>
            <a:ext cx="8642160" cy="64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ОСНОВНЫЕ ПОНЯТИЯ И ОПРЕДЕЛЕНИЯ ТЕОРИИ РАСЧЁ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СТАТИЧЕСКИ НЕОПРЕДЕЛИМЫХ СИСТЕМ ( СНС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907920"/>
            <a:ext cx="8496000" cy="1009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Статически неопределимой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называется геометр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неизменяемая система, для определения силовых фак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в  которой </a:t>
            </a: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недостаточно одних лишь уравнений равновес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*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040" y="1959120"/>
            <a:ext cx="835200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В дополнение к уравнениям статики необходимо использовать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совместности деформаций 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или перемещений и физические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между статическими и кинематическими (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геометрическими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) величи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41800" y="4589640"/>
            <a:ext cx="3778200" cy="457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–W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л.с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32240" y="5013360"/>
            <a:ext cx="3384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отсутствии ложных связ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0600" y="5084640"/>
            <a:ext cx="2592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пло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ержневых сист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8680" y="5183280"/>
            <a:ext cx="381636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л.с.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сло лишних связе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62680" y="5702400"/>
            <a:ext cx="3744720" cy="9176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ень стат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определимости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вна числу лишних связей в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443640" y="5554080"/>
            <a:ext cx="79236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5216400"/>
            <a:ext cx="2016000" cy="457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5635800"/>
            <a:ext cx="48258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число  независимых  </a:t>
            </a:r>
            <a:r>
              <a:rPr b="1" i="1" lang="ru-RU" sz="1800" spc="-1" strike="noStrike">
                <a:solidFill>
                  <a:srgbClr val="333399"/>
                </a:solidFill>
                <a:latin typeface="Arial Narrow"/>
              </a:rPr>
              <a:t>замкнутых конту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в расчётной схеме системы, образ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элементами системы  друг с другом  и  ди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м «земл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 – число простых шарнир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1480" y="2997360"/>
            <a:ext cx="2000160" cy="1250640"/>
          </a:xfrm>
          <a:custGeom>
            <a:avLst/>
            <a:gdLst/>
            <a:ahLst/>
            <a:rect l="l" t="t" r="r" b="b"/>
            <a:pathLst>
              <a:path w="1260" h="788">
                <a:moveTo>
                  <a:pt x="0" y="788"/>
                </a:moveTo>
                <a:lnTo>
                  <a:pt x="0" y="368"/>
                </a:lnTo>
                <a:lnTo>
                  <a:pt x="416" y="368"/>
                </a:lnTo>
                <a:lnTo>
                  <a:pt x="419" y="0"/>
                </a:lnTo>
                <a:lnTo>
                  <a:pt x="1256" y="0"/>
                </a:lnTo>
                <a:lnTo>
                  <a:pt x="1260" y="348"/>
                </a:lnTo>
                <a:lnTo>
                  <a:pt x="1048" y="77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01720" y="3581280"/>
            <a:ext cx="1346400" cy="654120"/>
          </a:xfrm>
          <a:custGeom>
            <a:avLst/>
            <a:gdLst/>
            <a:ahLst/>
            <a:rect l="l" t="t" r="r" b="b"/>
            <a:pathLst>
              <a:path w="848" h="412">
                <a:moveTo>
                  <a:pt x="4" y="412"/>
                </a:moveTo>
                <a:lnTo>
                  <a:pt x="0" y="0"/>
                </a:lnTo>
                <a:lnTo>
                  <a:pt x="84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33480" y="4221000"/>
            <a:ext cx="21600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32040" y="422100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5600" y="4221000"/>
            <a:ext cx="21600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3800" y="4221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00360" y="3573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4405320"/>
            <a:ext cx="360360" cy="7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440" y="440532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4221000"/>
            <a:ext cx="216000" cy="179640"/>
          </a:xfrm>
          <a:custGeom>
            <a:avLst/>
            <a:gdLst/>
            <a:ahLst/>
            <a:rect l="l" t="t" r="r" b="b"/>
            <a:pathLst>
              <a:path w="91" h="91">
                <a:moveTo>
                  <a:pt x="0" y="91"/>
                </a:moveTo>
                <a:lnTo>
                  <a:pt x="46" y="0"/>
                </a:lnTo>
                <a:lnTo>
                  <a:pt x="91" y="9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92320" y="3544920"/>
            <a:ext cx="730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8680" y="4175280"/>
            <a:ext cx="730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4194000"/>
            <a:ext cx="73080" cy="71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73200" y="4365720"/>
            <a:ext cx="730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70120" y="4365720"/>
            <a:ext cx="730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17560" y="3548160"/>
            <a:ext cx="73080" cy="7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7560" y="3625920"/>
            <a:ext cx="576000" cy="720720"/>
          </a:xfrm>
          <a:custGeom>
            <a:avLst/>
            <a:gdLst/>
            <a:ahLst/>
            <a:rect l="l" t="t" r="r" b="b"/>
            <a:pathLst>
              <a:path w="317" h="454">
                <a:moveTo>
                  <a:pt x="0" y="318"/>
                </a:moveTo>
                <a:lnTo>
                  <a:pt x="0" y="0"/>
                </a:lnTo>
                <a:lnTo>
                  <a:pt x="317" y="0"/>
                </a:lnTo>
                <a:lnTo>
                  <a:pt x="317" y="363"/>
                </a:lnTo>
                <a:lnTo>
                  <a:pt x="272" y="454"/>
                </a:lnTo>
                <a:lnTo>
                  <a:pt x="181" y="454"/>
                </a:lnTo>
                <a:lnTo>
                  <a:pt x="0" y="318"/>
                </a:lnTo>
                <a:close/>
              </a:path>
            </a:pathLst>
          </a:custGeom>
          <a:noFill/>
          <a:ln w="1260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6360" y="3035160"/>
            <a:ext cx="1244520" cy="495360"/>
          </a:xfrm>
          <a:custGeom>
            <a:avLst/>
            <a:gdLst/>
            <a:ahLst/>
            <a:rect l="l" t="t" r="r" b="b"/>
            <a:pathLst>
              <a:path w="784" h="312">
                <a:moveTo>
                  <a:pt x="3" y="306"/>
                </a:moveTo>
                <a:lnTo>
                  <a:pt x="0" y="4"/>
                </a:lnTo>
                <a:lnTo>
                  <a:pt x="776" y="0"/>
                </a:lnTo>
                <a:lnTo>
                  <a:pt x="784" y="312"/>
                </a:lnTo>
                <a:lnTo>
                  <a:pt x="3" y="306"/>
                </a:lnTo>
                <a:close/>
              </a:path>
            </a:pathLst>
          </a:custGeom>
          <a:noFill/>
          <a:ln w="1260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46360" y="3641760"/>
            <a:ext cx="901440" cy="689040"/>
          </a:xfrm>
          <a:custGeom>
            <a:avLst/>
            <a:gdLst/>
            <a:ahLst/>
            <a:rect l="l" t="t" r="r" b="b"/>
            <a:pathLst>
              <a:path w="568" h="434">
                <a:moveTo>
                  <a:pt x="0" y="326"/>
                </a:moveTo>
                <a:lnTo>
                  <a:pt x="3" y="0"/>
                </a:lnTo>
                <a:lnTo>
                  <a:pt x="568" y="6"/>
                </a:lnTo>
                <a:lnTo>
                  <a:pt x="568" y="330"/>
                </a:lnTo>
                <a:lnTo>
                  <a:pt x="56" y="434"/>
                </a:lnTo>
                <a:lnTo>
                  <a:pt x="0" y="326"/>
                </a:lnTo>
                <a:close/>
              </a:path>
            </a:pathLst>
          </a:custGeom>
          <a:noFill/>
          <a:ln w="1260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645000"/>
            <a:ext cx="196920" cy="399960"/>
          </a:xfrm>
          <a:custGeom>
            <a:avLst/>
            <a:gdLst/>
            <a:ahLst/>
            <a:rect l="l" t="t" r="r" b="b"/>
            <a:pathLst>
              <a:path w="124" h="252">
                <a:moveTo>
                  <a:pt x="0" y="252"/>
                </a:moveTo>
                <a:lnTo>
                  <a:pt x="4" y="4"/>
                </a:lnTo>
                <a:lnTo>
                  <a:pt x="124" y="0"/>
                </a:lnTo>
                <a:lnTo>
                  <a:pt x="0" y="252"/>
                </a:lnTo>
                <a:close/>
              </a:path>
            </a:pathLst>
          </a:custGeom>
          <a:noFill/>
          <a:ln w="1260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47720" y="4270320"/>
            <a:ext cx="120600" cy="108000"/>
          </a:xfrm>
          <a:custGeom>
            <a:avLst/>
            <a:gdLst/>
            <a:ahLst/>
            <a:rect l="l" t="t" r="r" b="b"/>
            <a:pathLst>
              <a:path w="76" h="76">
                <a:moveTo>
                  <a:pt x="0" y="76"/>
                </a:moveTo>
                <a:lnTo>
                  <a:pt x="36" y="0"/>
                </a:lnTo>
                <a:lnTo>
                  <a:pt x="76" y="76"/>
                </a:lnTo>
                <a:lnTo>
                  <a:pt x="0" y="76"/>
                </a:lnTo>
                <a:close/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3284640"/>
            <a:ext cx="433440" cy="288720"/>
          </a:xfrm>
          <a:custGeom>
            <a:avLst/>
            <a:gdLst/>
            <a:ahLst/>
            <a:rect l="l" t="t" r="r" b="b"/>
            <a:pathLst>
              <a:path w="273" h="182">
                <a:moveTo>
                  <a:pt x="91" y="182"/>
                </a:moveTo>
                <a:lnTo>
                  <a:pt x="0" y="0"/>
                </a:lnTo>
                <a:lnTo>
                  <a:pt x="273" y="46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27200" y="3573360"/>
            <a:ext cx="173160" cy="223920"/>
          </a:xfrm>
          <a:custGeom>
            <a:avLst/>
            <a:gdLst/>
            <a:ahLst/>
            <a:rect l="l" t="t" r="r" b="b"/>
            <a:pathLst>
              <a:path w="109" h="141">
                <a:moveTo>
                  <a:pt x="18" y="0"/>
                </a:moveTo>
                <a:lnTo>
                  <a:pt x="0" y="141"/>
                </a:lnTo>
                <a:lnTo>
                  <a:pt x="109" y="9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3789360"/>
            <a:ext cx="287280" cy="71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06360" y="381636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К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74760" y="315432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К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382104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К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97200" y="390204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К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44480" y="448956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К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6280" y="3773520"/>
            <a:ext cx="142920" cy="142920"/>
          </a:xfrm>
          <a:prstGeom prst="line">
            <a:avLst/>
          </a:prstGeom>
          <a:ln w="64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4352760"/>
            <a:ext cx="792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4920" y="4568760"/>
            <a:ext cx="792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2960" y="305424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93920" y="3767040"/>
            <a:ext cx="431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760920"/>
            <a:ext cx="43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4384800"/>
            <a:ext cx="108000" cy="431640"/>
          </a:xfrm>
          <a:custGeom>
            <a:avLst/>
            <a:gdLst>
              <a:gd name="textAreaLeft" fmla="*/ 0 w 108000"/>
              <a:gd name="textAreaRight" fmla="*/ 38880 w 10800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65600" y="4417920"/>
            <a:ext cx="2112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917800"/>
            <a:ext cx="34560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27920" y="330372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89720" y="3227400"/>
            <a:ext cx="9367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09640" y="4348080"/>
            <a:ext cx="38160" cy="214560"/>
          </a:xfrm>
          <a:custGeom>
            <a:avLst/>
            <a:gdLst/>
            <a:ahLst/>
            <a:rect l="l" t="t" r="r" b="b"/>
            <a:pathLst>
              <a:path w="24" h="135">
                <a:moveTo>
                  <a:pt x="0" y="0"/>
                </a:moveTo>
                <a:lnTo>
                  <a:pt x="6" y="81"/>
                </a:lnTo>
                <a:lnTo>
                  <a:pt x="24" y="135"/>
                </a:lnTo>
              </a:path>
            </a:pathLst>
          </a:custGeom>
          <a:noFill/>
          <a:ln w="64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65480" y="2933640"/>
            <a:ext cx="39607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–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+ 1 + 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–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9268400">
            <a:off x="6370200" y="3933360"/>
            <a:ext cx="1297080" cy="216000"/>
          </a:xfrm>
          <a:prstGeom prst="leftRightArrow">
            <a:avLst>
              <a:gd name="adj1" fmla="val 50000"/>
              <a:gd name="adj2" fmla="val 119544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2888280" y="4928400"/>
            <a:ext cx="433440" cy="215640"/>
          </a:xfrm>
          <a:prstGeom prst="leftRightArrow">
            <a:avLst>
              <a:gd name="adj1" fmla="val 39389"/>
              <a:gd name="adj2" fmla="val 56085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6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760"/>
                            </p:stCondLst>
                            <p:childTnLst>
                              <p:par>
                                <p:cTn id="2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500"/>
                            </p:stCondLst>
                            <p:childTnLst>
                              <p:par>
                                <p:cTn id="2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3b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260280"/>
            <a:ext cx="86421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БЩИЕ СВОЙСТВА СТАТИЧЕСКИ НЕОПРЕДЕЛИМЫ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698400"/>
            <a:ext cx="8642160" cy="11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. Для расчёта статически неопределимой системы недостаточно одних лишь уравнений равновесия. К ним должны быть добавлены условия (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уравнения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совместности деформаций и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или перемещений и физические зависимости; т.е. при расчёте СНС </a:t>
            </a: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рассматриваются все три стороны задачи механик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– статическая, геометрическая и физи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4520" y="2852640"/>
            <a:ext cx="360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890720"/>
            <a:ext cx="864216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2. Распределение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ле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 усилий в статически неопределимой сис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зависит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не только от воздействий, геометрии и структуры систе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о и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от жёсткостей элементов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отношений и, в общем случа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числовых значений жесткостных характеристик</a:t>
            </a:r>
            <a:r>
              <a:rPr b="1" lang="ru-RU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4080" y="3166920"/>
            <a:ext cx="792360" cy="576360"/>
          </a:xfrm>
          <a:custGeom>
            <a:avLst/>
            <a:gdLst/>
            <a:ahLst/>
            <a:rect l="l" t="t" r="r" b="b"/>
            <a:pathLst>
              <a:path w="499" h="363">
                <a:moveTo>
                  <a:pt x="0" y="363"/>
                </a:moveTo>
                <a:lnTo>
                  <a:pt x="0" y="0"/>
                </a:lnTo>
                <a:lnTo>
                  <a:pt x="499" y="0"/>
                </a:lnTo>
                <a:lnTo>
                  <a:pt x="499" y="3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1120" y="3743280"/>
            <a:ext cx="215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9320" y="3743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67000" y="3743280"/>
            <a:ext cx="215640" cy="7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3743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00" y="313200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35040" y="313380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4120" y="31669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49520" y="316692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49520" y="3743280"/>
            <a:ext cx="431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35080" y="3166920"/>
            <a:ext cx="0" cy="57636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1747800" y="3271320"/>
            <a:ext cx="360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2360" y="35082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35053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3789360"/>
            <a:ext cx="1665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= 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676080" y="3268440"/>
            <a:ext cx="505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1182240" y="3279600"/>
            <a:ext cx="505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52800" y="3166920"/>
            <a:ext cx="287280" cy="576360"/>
          </a:xfrm>
          <a:custGeom>
            <a:avLst/>
            <a:gdLst/>
            <a:ahLst/>
            <a:rect l="l" t="t" r="r" b="b"/>
            <a:pathLst>
              <a:path w="181" h="363">
                <a:moveTo>
                  <a:pt x="181" y="0"/>
                </a:moveTo>
                <a:lnTo>
                  <a:pt x="181" y="363"/>
                </a:lnTo>
                <a:lnTo>
                  <a:pt x="0" y="363"/>
                </a:lnTo>
                <a:lnTo>
                  <a:pt x="181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9280" y="3166920"/>
            <a:ext cx="172800" cy="576360"/>
          </a:xfrm>
          <a:custGeom>
            <a:avLst/>
            <a:gdLst/>
            <a:ahLst/>
            <a:rect l="l" t="t" r="r" b="b"/>
            <a:pathLst>
              <a:path w="181" h="363">
                <a:moveTo>
                  <a:pt x="181" y="0"/>
                </a:moveTo>
                <a:lnTo>
                  <a:pt x="181" y="363"/>
                </a:lnTo>
                <a:lnTo>
                  <a:pt x="0" y="363"/>
                </a:lnTo>
                <a:lnTo>
                  <a:pt x="181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40080" y="316692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2160" y="2890800"/>
            <a:ext cx="13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00320" y="3751200"/>
            <a:ext cx="1162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21000" y="3171960"/>
            <a:ext cx="287640" cy="576000"/>
          </a:xfrm>
          <a:custGeom>
            <a:avLst/>
            <a:gdLst/>
            <a:ahLst/>
            <a:rect l="l" t="t" r="r" b="b"/>
            <a:pathLst>
              <a:path w="181" h="363">
                <a:moveTo>
                  <a:pt x="181" y="0"/>
                </a:moveTo>
                <a:lnTo>
                  <a:pt x="181" y="363"/>
                </a:lnTo>
                <a:lnTo>
                  <a:pt x="0" y="363"/>
                </a:lnTo>
                <a:lnTo>
                  <a:pt x="181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64000" y="3171960"/>
            <a:ext cx="152280" cy="576000"/>
          </a:xfrm>
          <a:custGeom>
            <a:avLst/>
            <a:gdLst/>
            <a:ahLst/>
            <a:rect l="l" t="t" r="r" b="b"/>
            <a:pathLst>
              <a:path w="181" h="363">
                <a:moveTo>
                  <a:pt x="181" y="0"/>
                </a:moveTo>
                <a:lnTo>
                  <a:pt x="181" y="363"/>
                </a:lnTo>
                <a:lnTo>
                  <a:pt x="0" y="363"/>
                </a:lnTo>
                <a:lnTo>
                  <a:pt x="181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27440" y="317196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9520" y="2895480"/>
            <a:ext cx="1346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87680" y="3755880"/>
            <a:ext cx="1162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321300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3103560"/>
            <a:ext cx="71640" cy="216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310212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78600" y="3102120"/>
            <a:ext cx="71280" cy="215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310032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6104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0396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4832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9268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3560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7996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188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3494160"/>
            <a:ext cx="936360" cy="439560"/>
          </a:xfrm>
          <a:custGeom>
            <a:avLst/>
            <a:gdLst/>
            <a:ahLst/>
            <a:rect l="l" t="t" r="r" b="b"/>
            <a:pathLst>
              <a:path w="590" h="277">
                <a:moveTo>
                  <a:pt x="0" y="181"/>
                </a:moveTo>
                <a:cubicBezTo>
                  <a:pt x="1" y="96"/>
                  <a:pt x="1" y="136"/>
                  <a:pt x="0" y="0"/>
                </a:cubicBezTo>
                <a:cubicBezTo>
                  <a:pt x="25" y="52"/>
                  <a:pt x="32" y="64"/>
                  <a:pt x="53" y="96"/>
                </a:cubicBezTo>
                <a:cubicBezTo>
                  <a:pt x="74" y="128"/>
                  <a:pt x="98" y="165"/>
                  <a:pt x="125" y="192"/>
                </a:cubicBezTo>
                <a:cubicBezTo>
                  <a:pt x="152" y="219"/>
                  <a:pt x="184" y="242"/>
                  <a:pt x="213" y="256"/>
                </a:cubicBezTo>
                <a:cubicBezTo>
                  <a:pt x="242" y="270"/>
                  <a:pt x="268" y="275"/>
                  <a:pt x="297" y="276"/>
                </a:cubicBezTo>
                <a:cubicBezTo>
                  <a:pt x="326" y="277"/>
                  <a:pt x="360" y="273"/>
                  <a:pt x="389" y="260"/>
                </a:cubicBezTo>
                <a:cubicBezTo>
                  <a:pt x="418" y="247"/>
                  <a:pt x="447" y="223"/>
                  <a:pt x="473" y="196"/>
                </a:cubicBezTo>
                <a:cubicBezTo>
                  <a:pt x="499" y="169"/>
                  <a:pt x="526" y="129"/>
                  <a:pt x="545" y="96"/>
                </a:cubicBezTo>
                <a:cubicBezTo>
                  <a:pt x="564" y="63"/>
                  <a:pt x="565" y="52"/>
                  <a:pt x="589" y="0"/>
                </a:cubicBezTo>
                <a:cubicBezTo>
                  <a:pt x="589" y="112"/>
                  <a:pt x="590" y="143"/>
                  <a:pt x="590" y="181"/>
                </a:cubicBez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48360" y="3781440"/>
            <a:ext cx="93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69120" y="3422520"/>
            <a:ext cx="939600" cy="439920"/>
          </a:xfrm>
          <a:custGeom>
            <a:avLst/>
            <a:gdLst/>
            <a:ahLst/>
            <a:rect l="l" t="t" r="r" b="b"/>
            <a:pathLst>
              <a:path w="592" h="277">
                <a:moveTo>
                  <a:pt x="0" y="225"/>
                </a:moveTo>
                <a:cubicBezTo>
                  <a:pt x="1" y="140"/>
                  <a:pt x="1" y="136"/>
                  <a:pt x="0" y="0"/>
                </a:cubicBezTo>
                <a:cubicBezTo>
                  <a:pt x="25" y="52"/>
                  <a:pt x="32" y="64"/>
                  <a:pt x="53" y="96"/>
                </a:cubicBezTo>
                <a:cubicBezTo>
                  <a:pt x="74" y="128"/>
                  <a:pt x="98" y="165"/>
                  <a:pt x="125" y="192"/>
                </a:cubicBezTo>
                <a:cubicBezTo>
                  <a:pt x="152" y="219"/>
                  <a:pt x="184" y="242"/>
                  <a:pt x="213" y="256"/>
                </a:cubicBezTo>
                <a:cubicBezTo>
                  <a:pt x="242" y="270"/>
                  <a:pt x="268" y="275"/>
                  <a:pt x="297" y="276"/>
                </a:cubicBezTo>
                <a:cubicBezTo>
                  <a:pt x="326" y="277"/>
                  <a:pt x="360" y="273"/>
                  <a:pt x="389" y="260"/>
                </a:cubicBezTo>
                <a:cubicBezTo>
                  <a:pt x="418" y="247"/>
                  <a:pt x="447" y="223"/>
                  <a:pt x="473" y="196"/>
                </a:cubicBezTo>
                <a:cubicBezTo>
                  <a:pt x="499" y="169"/>
                  <a:pt x="526" y="129"/>
                  <a:pt x="545" y="96"/>
                </a:cubicBezTo>
                <a:cubicBezTo>
                  <a:pt x="564" y="63"/>
                  <a:pt x="560" y="70"/>
                  <a:pt x="589" y="0"/>
                </a:cubicBezTo>
                <a:cubicBezTo>
                  <a:pt x="589" y="112"/>
                  <a:pt x="592" y="191"/>
                  <a:pt x="592" y="229"/>
                </a:cubicBez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69120" y="378000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94560" y="3618000"/>
            <a:ext cx="936720" cy="439560"/>
          </a:xfrm>
          <a:custGeom>
            <a:avLst/>
            <a:gdLst/>
            <a:ahLst/>
            <a:rect l="l" t="t" r="r" b="b"/>
            <a:pathLst>
              <a:path w="590" h="277">
                <a:moveTo>
                  <a:pt x="0" y="106"/>
                </a:moveTo>
                <a:cubicBezTo>
                  <a:pt x="1" y="21"/>
                  <a:pt x="2" y="136"/>
                  <a:pt x="1" y="0"/>
                </a:cubicBezTo>
                <a:cubicBezTo>
                  <a:pt x="26" y="52"/>
                  <a:pt x="33" y="64"/>
                  <a:pt x="54" y="96"/>
                </a:cubicBezTo>
                <a:cubicBezTo>
                  <a:pt x="75" y="128"/>
                  <a:pt x="99" y="165"/>
                  <a:pt x="126" y="192"/>
                </a:cubicBezTo>
                <a:cubicBezTo>
                  <a:pt x="153" y="219"/>
                  <a:pt x="185" y="242"/>
                  <a:pt x="214" y="256"/>
                </a:cubicBezTo>
                <a:cubicBezTo>
                  <a:pt x="243" y="270"/>
                  <a:pt x="269" y="275"/>
                  <a:pt x="298" y="276"/>
                </a:cubicBezTo>
                <a:cubicBezTo>
                  <a:pt x="327" y="277"/>
                  <a:pt x="361" y="273"/>
                  <a:pt x="390" y="260"/>
                </a:cubicBezTo>
                <a:cubicBezTo>
                  <a:pt x="419" y="247"/>
                  <a:pt x="448" y="223"/>
                  <a:pt x="474" y="196"/>
                </a:cubicBezTo>
                <a:cubicBezTo>
                  <a:pt x="500" y="169"/>
                  <a:pt x="527" y="129"/>
                  <a:pt x="546" y="96"/>
                </a:cubicBezTo>
                <a:cubicBezTo>
                  <a:pt x="565" y="63"/>
                  <a:pt x="559" y="76"/>
                  <a:pt x="590" y="0"/>
                </a:cubicBezTo>
                <a:cubicBezTo>
                  <a:pt x="590" y="112"/>
                  <a:pt x="588" y="58"/>
                  <a:pt x="588" y="106"/>
                </a:cubicBez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3781440"/>
            <a:ext cx="93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321300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3103560"/>
            <a:ext cx="71640" cy="2160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310212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02600" y="3102120"/>
            <a:ext cx="71280" cy="2156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08720" y="310032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8504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2796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7232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1668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5960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0396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6588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07240" y="32130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31200" y="3103560"/>
            <a:ext cx="71280" cy="2160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2480" y="310212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532720" y="3102120"/>
            <a:ext cx="71640" cy="215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539200" y="310032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71516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5808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44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4716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9008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434440" y="30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306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3206880"/>
            <a:ext cx="179280" cy="71280"/>
          </a:xfrm>
          <a:custGeom>
            <a:avLst/>
            <a:gdLst/>
            <a:ahLst/>
            <a:rect l="l" t="t" r="r" b="b"/>
            <a:pathLst>
              <a:path w="136" h="90">
                <a:moveTo>
                  <a:pt x="0" y="0"/>
                </a:moveTo>
                <a:lnTo>
                  <a:pt x="136" y="0"/>
                </a:lnTo>
                <a:lnTo>
                  <a:pt x="0" y="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124760" y="3206880"/>
            <a:ext cx="179280" cy="71280"/>
          </a:xfrm>
          <a:custGeom>
            <a:avLst/>
            <a:gdLst/>
            <a:ahLst/>
            <a:rect l="l" t="t" r="r" b="b"/>
            <a:pathLst>
              <a:path w="136" h="90">
                <a:moveTo>
                  <a:pt x="0" y="0"/>
                </a:moveTo>
                <a:lnTo>
                  <a:pt x="136" y="0"/>
                </a:lnTo>
                <a:lnTo>
                  <a:pt x="0" y="9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96360" y="3218040"/>
            <a:ext cx="9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68760" y="2809800"/>
            <a:ext cx="36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94560" y="28116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7640" y="28116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48360" y="3357720"/>
            <a:ext cx="39528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89440" y="3357720"/>
            <a:ext cx="3952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99000" y="32241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148360" y="325116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9760" y="3247920"/>
            <a:ext cx="0" cy="142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3680" y="3486240"/>
            <a:ext cx="936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3409920"/>
            <a:ext cx="936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96360" y="3611520"/>
            <a:ext cx="93636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77320" y="360828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22840" y="37497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84960" y="3522600"/>
            <a:ext cx="5428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59640" y="3508200"/>
            <a:ext cx="5428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04240" y="3362400"/>
            <a:ext cx="5428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ql</a:t>
            </a:r>
            <a:r>
              <a:rPr b="1" i="1" lang="en-US" sz="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18160" y="3481560"/>
            <a:ext cx="0" cy="10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1520" y="3730680"/>
            <a:ext cx="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6840" y="3409920"/>
            <a:ext cx="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8077320" y="3564000"/>
            <a:ext cx="118800" cy="272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4149720"/>
            <a:ext cx="864216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3. Кинематические воздействия (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мещения опор, неточности изготовления элементов и монтажа конструкции</a:t>
            </a: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), а также изменения темп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зывают в статически неопределимой системе изменения силовых факто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( иначе: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СН системы чувствительны в статическом отнош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 Narrow"/>
              </a:rPr>
              <a:t>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 Narrow"/>
              </a:rPr>
              <a:t>к кинематическим и температурным воздействиям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0240" y="5514840"/>
            <a:ext cx="71640" cy="216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1880" y="551340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9280" y="562284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80960" y="5878440"/>
            <a:ext cx="216000" cy="716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79520" y="58784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68360" y="5877000"/>
            <a:ext cx="216000" cy="71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66920" y="58770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88960" y="5654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68440" y="56419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27400" y="558792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35320" y="583560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50800" y="563400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52600" y="5837400"/>
            <a:ext cx="73080" cy="7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1880" y="5621400"/>
            <a:ext cx="160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7200" y="5626080"/>
            <a:ext cx="1606320" cy="201600"/>
          </a:xfrm>
          <a:custGeom>
            <a:avLst/>
            <a:gdLst/>
            <a:ahLst/>
            <a:rect l="l" t="t" r="r" b="b"/>
            <a:pathLst>
              <a:path w="1012" h="127">
                <a:moveTo>
                  <a:pt x="0" y="0"/>
                </a:moveTo>
                <a:cubicBezTo>
                  <a:pt x="15" y="1"/>
                  <a:pt x="57" y="0"/>
                  <a:pt x="88" y="4"/>
                </a:cubicBezTo>
                <a:cubicBezTo>
                  <a:pt x="119" y="8"/>
                  <a:pt x="138" y="9"/>
                  <a:pt x="184" y="22"/>
                </a:cubicBezTo>
                <a:cubicBezTo>
                  <a:pt x="230" y="35"/>
                  <a:pt x="307" y="68"/>
                  <a:pt x="364" y="84"/>
                </a:cubicBezTo>
                <a:cubicBezTo>
                  <a:pt x="421" y="100"/>
                  <a:pt x="471" y="114"/>
                  <a:pt x="528" y="120"/>
                </a:cubicBezTo>
                <a:cubicBezTo>
                  <a:pt x="585" y="126"/>
                  <a:pt x="651" y="127"/>
                  <a:pt x="708" y="120"/>
                </a:cubicBezTo>
                <a:cubicBezTo>
                  <a:pt x="765" y="113"/>
                  <a:pt x="817" y="97"/>
                  <a:pt x="868" y="80"/>
                </a:cubicBezTo>
                <a:cubicBezTo>
                  <a:pt x="919" y="63"/>
                  <a:pt x="982" y="29"/>
                  <a:pt x="1012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80960" y="6056280"/>
            <a:ext cx="216000" cy="716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79520" y="60562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88960" y="5832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50800" y="581184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52600" y="6014880"/>
            <a:ext cx="730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95520" y="587700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95520" y="6060960"/>
            <a:ext cx="14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8480" y="5877000"/>
            <a:ext cx="0" cy="17928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0040" y="58341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1880" y="6099120"/>
            <a:ext cx="1655640" cy="355680"/>
          </a:xfrm>
          <a:custGeom>
            <a:avLst/>
            <a:gdLst/>
            <a:ahLst/>
            <a:rect l="l" t="t" r="r" b="b"/>
            <a:pathLst>
              <a:path w="1043" h="224">
                <a:moveTo>
                  <a:pt x="0" y="92"/>
                </a:moveTo>
                <a:lnTo>
                  <a:pt x="1043" y="92"/>
                </a:lnTo>
                <a:lnTo>
                  <a:pt x="485" y="224"/>
                </a:lnTo>
                <a:lnTo>
                  <a:pt x="1" y="0"/>
                </a:lnTo>
                <a:lnTo>
                  <a:pt x="0" y="92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98680" y="6237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3160" y="290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7944800">
            <a:off x="1434960" y="5387400"/>
            <a:ext cx="252360" cy="144720"/>
          </a:xfrm>
          <a:prstGeom prst="leftArrow">
            <a:avLst>
              <a:gd name="adj1" fmla="val 54407"/>
              <a:gd name="adj2" fmla="val 75693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7254200">
            <a:off x="3365640" y="5427000"/>
            <a:ext cx="252360" cy="144360"/>
          </a:xfrm>
          <a:prstGeom prst="leftArrow">
            <a:avLst>
              <a:gd name="adj1" fmla="val 54407"/>
              <a:gd name="adj2" fmla="val 75881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98800" y="5765760"/>
            <a:ext cx="792000" cy="576360"/>
          </a:xfrm>
          <a:custGeom>
            <a:avLst/>
            <a:gdLst/>
            <a:ahLst/>
            <a:rect l="l" t="t" r="r" b="b"/>
            <a:pathLst>
              <a:path w="499" h="363">
                <a:moveTo>
                  <a:pt x="0" y="363"/>
                </a:moveTo>
                <a:lnTo>
                  <a:pt x="0" y="0"/>
                </a:lnTo>
                <a:lnTo>
                  <a:pt x="499" y="0"/>
                </a:lnTo>
                <a:lnTo>
                  <a:pt x="499" y="3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6342120"/>
            <a:ext cx="216000" cy="712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4040" y="63421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81360" y="6342120"/>
            <a:ext cx="216000" cy="71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79920" y="63421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00240" y="5765760"/>
            <a:ext cx="792360" cy="576360"/>
          </a:xfrm>
          <a:custGeom>
            <a:avLst/>
            <a:gdLst/>
            <a:ahLst/>
            <a:rect l="l" t="t" r="r" b="b"/>
            <a:pathLst>
              <a:path w="499" h="363">
                <a:moveTo>
                  <a:pt x="0" y="363"/>
                </a:moveTo>
                <a:lnTo>
                  <a:pt x="0" y="0"/>
                </a:lnTo>
                <a:lnTo>
                  <a:pt x="499" y="0"/>
                </a:lnTo>
                <a:lnTo>
                  <a:pt x="499" y="363"/>
                </a:ln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29040" y="5799240"/>
            <a:ext cx="7189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5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25960" y="592920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43280" y="5700600"/>
            <a:ext cx="1100160" cy="641520"/>
          </a:xfrm>
          <a:custGeom>
            <a:avLst/>
            <a:gdLst/>
            <a:ahLst/>
            <a:rect l="l" t="t" r="r" b="b"/>
            <a:pathLst>
              <a:path w="693" h="404">
                <a:moveTo>
                  <a:pt x="99" y="401"/>
                </a:moveTo>
                <a:cubicBezTo>
                  <a:pt x="98" y="390"/>
                  <a:pt x="96" y="359"/>
                  <a:pt x="90" y="335"/>
                </a:cubicBezTo>
                <a:cubicBezTo>
                  <a:pt x="84" y="311"/>
                  <a:pt x="76" y="288"/>
                  <a:pt x="66" y="257"/>
                </a:cubicBezTo>
                <a:cubicBezTo>
                  <a:pt x="56" y="226"/>
                  <a:pt x="41" y="187"/>
                  <a:pt x="30" y="149"/>
                </a:cubicBezTo>
                <a:cubicBezTo>
                  <a:pt x="19" y="111"/>
                  <a:pt x="12" y="107"/>
                  <a:pt x="0" y="29"/>
                </a:cubicBezTo>
                <a:cubicBezTo>
                  <a:pt x="45" y="20"/>
                  <a:pt x="85" y="15"/>
                  <a:pt x="126" y="11"/>
                </a:cubicBezTo>
                <a:cubicBezTo>
                  <a:pt x="172" y="7"/>
                  <a:pt x="226" y="4"/>
                  <a:pt x="276" y="2"/>
                </a:cubicBezTo>
                <a:cubicBezTo>
                  <a:pt x="326" y="0"/>
                  <a:pt x="376" y="0"/>
                  <a:pt x="426" y="2"/>
                </a:cubicBezTo>
                <a:cubicBezTo>
                  <a:pt x="476" y="4"/>
                  <a:pt x="532" y="6"/>
                  <a:pt x="576" y="11"/>
                </a:cubicBezTo>
                <a:cubicBezTo>
                  <a:pt x="620" y="16"/>
                  <a:pt x="639" y="20"/>
                  <a:pt x="693" y="35"/>
                </a:cubicBezTo>
                <a:cubicBezTo>
                  <a:pt x="684" y="86"/>
                  <a:pt x="672" y="119"/>
                  <a:pt x="660" y="158"/>
                </a:cubicBezTo>
                <a:cubicBezTo>
                  <a:pt x="648" y="197"/>
                  <a:pt x="631" y="238"/>
                  <a:pt x="622" y="268"/>
                </a:cubicBezTo>
                <a:cubicBezTo>
                  <a:pt x="613" y="298"/>
                  <a:pt x="610" y="315"/>
                  <a:pt x="606" y="338"/>
                </a:cubicBezTo>
                <a:cubicBezTo>
                  <a:pt x="602" y="361"/>
                  <a:pt x="599" y="390"/>
                  <a:pt x="597" y="40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1960" y="5765760"/>
            <a:ext cx="324000" cy="576360"/>
          </a:xfrm>
          <a:custGeom>
            <a:avLst/>
            <a:gdLst/>
            <a:ahLst/>
            <a:rect l="l" t="t" r="r" b="b"/>
            <a:pathLst>
              <a:path w="211" h="363">
                <a:moveTo>
                  <a:pt x="75" y="363"/>
                </a:moveTo>
                <a:lnTo>
                  <a:pt x="211" y="363"/>
                </a:lnTo>
                <a:lnTo>
                  <a:pt x="0" y="0"/>
                </a:lnTo>
                <a:lnTo>
                  <a:pt x="75" y="0"/>
                </a:lnTo>
                <a:lnTo>
                  <a:pt x="75" y="363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778280" y="5765760"/>
            <a:ext cx="324000" cy="576360"/>
          </a:xfrm>
          <a:custGeom>
            <a:avLst/>
            <a:gdLst/>
            <a:ahLst/>
            <a:rect l="l" t="t" r="r" b="b"/>
            <a:pathLst>
              <a:path w="211" h="363">
                <a:moveTo>
                  <a:pt x="75" y="363"/>
                </a:moveTo>
                <a:lnTo>
                  <a:pt x="211" y="363"/>
                </a:lnTo>
                <a:lnTo>
                  <a:pt x="0" y="0"/>
                </a:lnTo>
                <a:lnTo>
                  <a:pt x="75" y="0"/>
                </a:lnTo>
                <a:lnTo>
                  <a:pt x="75" y="363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5640480"/>
            <a:ext cx="792000" cy="1220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99120" y="5373720"/>
            <a:ext cx="374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. Распределение усилий в СНС более равномерное, а перемеще-ния – меньше, чем в подобной ей статически определимой системе при одинаковых воздейств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5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5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0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000"/>
                            </p:stCondLst>
                            <p:childTnLst>
                              <p:par>
                                <p:cTn id="6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5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1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2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2000"/>
                            </p:stCondLst>
                            <p:childTnLst>
                              <p:par>
                                <p:cTn id="86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6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4000"/>
                            </p:stCondLst>
                            <p:childTnLst>
                              <p:par>
                                <p:cTn id="8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4500"/>
                            </p:stCondLst>
                            <p:childTnLst>
                              <p:par>
                                <p:cTn id="86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500"/>
                            </p:stCondLst>
                            <p:childTnLst>
                              <p:par>
                                <p:cTn id="8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8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3b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0920" y="260280"/>
            <a:ext cx="8642160" cy="65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ОСНОВНЫЕ 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КЛАССИЧЕСКИЕ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 МЕТОДЫ РАСЧЁ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ТАТИЧЕСКИ НЕОПРЕДЕЛИМЫХ СИС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981000"/>
            <a:ext cx="8556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Методы расчёта различаются по тому, какие величины принимаются в качеств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новных неизвестны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620720"/>
            <a:ext cx="7921440" cy="1767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новные неизвестны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расчётные величины, после определения 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все силовые факторы и переме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в статически неопределимой системе могут быть найд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с помощью стандартных процед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в частности рассмотрением отдельных элементов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89200" y="3416400"/>
            <a:ext cx="5327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Используется также термин «лишние неизвестны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2880" y="3763800"/>
            <a:ext cx="2232360" cy="11322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изве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2880" y="5011560"/>
            <a:ext cx="2232360" cy="62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чё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49600" y="3763800"/>
            <a:ext cx="1727280" cy="950400"/>
          </a:xfrm>
          <a:prstGeom prst="rect">
            <a:avLst/>
          </a:prstGeom>
          <a:solidFill>
            <a:srgbClr val="ff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Характер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Arial Narrow"/>
              </a:rPr>
              <a:t>сил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Arial Narrow"/>
              </a:rPr>
              <a:t>факто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55600" y="4675320"/>
            <a:ext cx="360360" cy="323640"/>
          </a:xfrm>
          <a:prstGeom prst="upDownArrow">
            <a:avLst>
              <a:gd name="adj1" fmla="val 50157"/>
              <a:gd name="adj2" fmla="val 30398"/>
            </a:avLst>
          </a:prstGeom>
          <a:gradFill rotWithShape="0">
            <a:gsLst>
              <a:gs pos="0">
                <a:srgbClr val="ffff00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74800" y="5011560"/>
            <a:ext cx="1702080" cy="624960"/>
          </a:xfrm>
          <a:prstGeom prst="rect">
            <a:avLst/>
          </a:prstGeom>
          <a:solidFill>
            <a:srgbClr val="ff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М е т о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с и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40240" y="3776760"/>
            <a:ext cx="1942920" cy="1076400"/>
          </a:xfrm>
          <a:prstGeom prst="rect">
            <a:avLst/>
          </a:prstGeom>
          <a:solidFill>
            <a:srgbClr val="ff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Характер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Arial Narrow"/>
              </a:rPr>
              <a:t>перемещ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44920" y="5008680"/>
            <a:ext cx="1930320" cy="624960"/>
          </a:xfrm>
          <a:prstGeom prst="rect">
            <a:avLst/>
          </a:prstGeom>
          <a:solidFill>
            <a:srgbClr val="ff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М е т о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переме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31040" y="3770280"/>
            <a:ext cx="2430360" cy="950400"/>
          </a:xfrm>
          <a:prstGeom prst="rect">
            <a:avLst/>
          </a:prstGeom>
          <a:solidFill>
            <a:srgbClr val="ff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Характер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00"/>
                </a:solidFill>
                <a:latin typeface="Arial Narrow"/>
              </a:rPr>
              <a:t>силовые фактор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en-US" sz="22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i="1" lang="en-US" sz="2200" spc="-1" strike="noStrike">
                <a:solidFill>
                  <a:srgbClr val="333399"/>
                </a:solidFill>
                <a:latin typeface="Arial Narrow"/>
              </a:rPr>
              <a:t>перемещ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31040" y="5002200"/>
            <a:ext cx="2430360" cy="64404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Смеш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м е т о 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33600" y="4127400"/>
            <a:ext cx="287280" cy="360360"/>
          </a:xfrm>
          <a:prstGeom prst="rightArrow">
            <a:avLst>
              <a:gd name="adj1" fmla="val 44491"/>
              <a:gd name="adj2" fmla="val 447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28920" y="5140440"/>
            <a:ext cx="287280" cy="360360"/>
          </a:xfrm>
          <a:prstGeom prst="rightArrow">
            <a:avLst>
              <a:gd name="adj1" fmla="val 44491"/>
              <a:gd name="adj2" fmla="val 4475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68800" y="4708440"/>
            <a:ext cx="360360" cy="324000"/>
          </a:xfrm>
          <a:prstGeom prst="upDownArrow">
            <a:avLst>
              <a:gd name="adj1" fmla="val 50157"/>
              <a:gd name="adj2" fmla="val 30398"/>
            </a:avLst>
          </a:prstGeom>
          <a:gradFill rotWithShape="0">
            <a:gsLst>
              <a:gs pos="0">
                <a:srgbClr val="ffff00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72120" y="4680000"/>
            <a:ext cx="360360" cy="323640"/>
          </a:xfrm>
          <a:prstGeom prst="upDownArrow">
            <a:avLst>
              <a:gd name="adj1" fmla="val 50157"/>
              <a:gd name="adj2" fmla="val 30398"/>
            </a:avLst>
          </a:prstGeom>
          <a:gradFill rotWithShape="0">
            <a:gsLst>
              <a:gs pos="0">
                <a:srgbClr val="ffff00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69200" y="4713120"/>
            <a:ext cx="360360" cy="324000"/>
          </a:xfrm>
          <a:prstGeom prst="upDownArrow">
            <a:avLst>
              <a:gd name="adj1" fmla="val 50157"/>
              <a:gd name="adj2" fmla="val 30398"/>
            </a:avLst>
          </a:prstGeom>
          <a:gradFill rotWithShape="0">
            <a:gsLst>
              <a:gs pos="0">
                <a:srgbClr val="ffff00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0000" y="5734080"/>
            <a:ext cx="7344000" cy="880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сновная система метод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– расчётная сх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модель задачи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, выявляющая основные неизвестные, выбранные для решения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1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8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8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3b9"/>
            </a:gs>
            <a:gs pos="100000">
              <a:srgbClr val="c5f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79280" y="234720"/>
            <a:ext cx="878544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70000"/>
              </a:lnSpc>
              <a:spcBef>
                <a:spcPts val="24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3300"/>
                </a:solidFill>
                <a:latin typeface="Book Antiqua"/>
              </a:rPr>
              <a:t>К о н т р о л ь н ы е    в о п р о с 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(</a:t>
            </a:r>
            <a:r>
              <a:rPr b="1" i="1" lang="ru-RU" sz="10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в скобках даны номера слайдов, в которых можно найти ответы на вопр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перехода к слайду с ответом можно сделать щелчок мышью по номеру в скобках</a:t>
            </a:r>
            <a:r>
              <a:rPr b="1" i="1" lang="ru-RU" sz="1600" spc="-1" strike="noStrike" baseline="30000">
                <a:solidFill>
                  <a:srgbClr val="663300"/>
                </a:solidFill>
                <a:latin typeface="Book Antiqua"/>
              </a:rPr>
              <a:t>*)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для возврата к контрольным вопросам сделать щелчок правой кнопкой мыш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и выбрать «Перейти к слайду 7»</a:t>
            </a:r>
            <a:r>
              <a:rPr b="1" i="1" lang="ru-RU" sz="1000" spc="-1" strike="noStrike">
                <a:solidFill>
                  <a:srgbClr val="663300"/>
                </a:solidFill>
                <a:latin typeface="Book Antiqua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Book Antiqu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Что такое статически неопределимая система (СНС)?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( 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акие уравнения и зависимости необходимо использовать в расчё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тически неопределимой системы?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( 3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Общие свойства статически неопределимых систем.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( 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Что такое степень статической неопределимости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t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  ( 5 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му равна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 ( 5 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По каким формулам можно вычислять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плоских стержне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?   ( 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. Чем различаются методы расчёта СНС?  ( 6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Что называется основными неизвестными в расчёте СНС?  ( 6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вы основные (классические) методы расчёта СНС?  ( 6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Что принимается в качестве основных неизвестных в каждом из ни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числить.  ( 6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Что такое основная система метода расчёта деформируемой стати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определимой системы?  ( 6 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*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олько в режиме «Показ слайд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9000" y="212760"/>
            <a:ext cx="8751960" cy="6456240"/>
          </a:xfrm>
          <a:prstGeom prst="rect">
            <a:avLst/>
          </a:prstGeom>
          <a:noFill/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6:55:03Z</dcterms:created>
  <dc:creator>User</dc:creator>
  <dc:description/>
  <dc:language>en-US</dc:language>
  <cp:lastModifiedBy>user</cp:lastModifiedBy>
  <dcterms:modified xsi:type="dcterms:W3CDTF">2011-01-30T06:36:06Z</dcterms:modified>
  <cp:revision>26</cp:revision>
  <dc:subject/>
  <dc:title>Слайд 1</dc:title>
</cp:coreProperties>
</file>